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909-E9C0-4772-8F01-F17059F2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589-60F7-4B7B-A245-75EB756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4F6-CDE0-4718-A778-4FEFBE57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94F-5B91-4235-89C7-78D87F2C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9BE-AEA6-42B8-A23C-E4790AED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CC08-E20E-40C3-9A2A-B1AE51BA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7C30-37E9-403D-8BD7-D35F60C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5015-36C2-4E80-AB6B-3DD0E7C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018-2248-40F0-8678-D9D16D0E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542-8C64-4BD3-A203-0A2F360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2C0D-64ED-4E37-A53A-62A0622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3CD-8EA7-475A-BAFF-E6F134A7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BD78-84AC-41CB-95CF-EF59A2C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0BEE-B336-4E9B-AF4B-2E22951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CA4-672C-4CD1-B4EE-9EB60DF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F7C-62C2-40C0-B227-236ECB7F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A83-B3B1-4D23-9DB9-D2768F1D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CBF-F34E-4E6B-97D1-7C79255E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0D8-6F63-4815-9DED-04AFBF9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025-221C-4008-A171-970FCFD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74B-5483-4532-A4E8-1D04591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C4B-1173-4A3C-A003-2561A578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A84-AAFE-4838-BCB5-B6B59497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B73-4738-42A1-B905-34EA8BC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53C-70E1-46CF-BF42-4886BA0739BD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37B-6DAA-434F-9AA7-7CCD5C7E7C95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ucalgary.ca/honesty/" TargetMode="External"/><Relationship Id="rId4" Type="http://schemas.openxmlformats.org/officeDocument/2006/relationships/hyperlink" Target="http://www.ucalgary.ca/pubs/calendar/2007/how/How_LB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All the work you submit must be original, and developed by you. If in doubt, check the U of C's honesty policy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ucalgary.ca/honesty/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check with your TA. Also be aware of U of C's definitions of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Plagiarism/Cheating/Other Academic Misconduct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the penalties and procedures associated with incidents of Plagiarism/Cheating/Other Academic Misconduct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ucalgary.ca/pubs/calendar/2007/how/How_LB.htm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682560" y="146160"/>
            <a:ext cx="6881760" cy="235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c9c2d1"/>
                </a:solidFill>
                <a:latin typeface="Book Antiqua"/>
              </a:rPr>
              <a:t>Deadline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February 23</a:t>
            </a:r>
            <a:r>
              <a:rPr b="0" lang="en-GB" sz="2800" spc="-1" strike="noStrike" baseline="30000">
                <a:solidFill>
                  <a:srgbClr val="c9c2d1"/>
                </a:solidFill>
                <a:latin typeface="Book Antiqua"/>
              </a:rPr>
              <a:t>rd</a:t>
            </a: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 2009, 11:59 pm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create a dashboard in Excel that summarizes the complex statistical data collec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Use file: ClassSurvey-Jalal.x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1. To practice good spreadsheet design principles as given in the class le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2. To introduce you to a realistic data analysis exercise using spreadshee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3. To allow you to design an information dashboard summarizing a large number of fields into a few informative char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ll in the following tabs: Introduction, Model, Data Dictionary. The model tab must include a rationale for the calculated fields you create, summary statistics, and dashboard desig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ta Tab: New calculated fields and new summary statistics calculations. For top marks you must create a new calculated field using either an “If” or a “Lookup” function. Make sure it is clear what is “Raw Data”, what are “Calculated Variables” and what are “Summary Calculations”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shboard tab: 3 charts you have designed to summarize the data with appropriate titles, legends, and annotations. Include on the Dashboard tab a section where in a few sentences you interpret each chart. Make your information dashboard as clear, concise, and informative as possible, using good visual design principles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tion Dashboard Design by Stephen Fe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Display of Qualitative Information by Edward Tuf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lements of Graphing Data by William Clevel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his assignment is worth 8% of your final grad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Grading: 10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Introduction, Model and Data Dictionary Tab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Design and Clarity of the Data and Dashboard tabs –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ccuracy of all calculation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2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Originality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Comprehensivenes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Note – by “comprehensiveness” what is meant is designing the dashboard so it reflects as much of the raw data as possible in a few clear and informative char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Name the assignment file: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ssign1_LastName_FirstName_StudentID.x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You may use Excel, Open Office Spreadsheet, or Google Spreadsheet &amp; Docs – but must submit an .xls fil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6T17:16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